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756-1267-4D06-AF3A-F5859408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3FB-18D7-465B-8409-8D65DF38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1F030-9F07-4907-BC26-3312FE8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58DA-3FA1-4D36-AF51-1B06576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284E0-D84F-4198-952B-D5160B8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335B2-6382-4FE1-AC1F-E65E1E0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D058-81A5-4DDC-9B8B-18004C6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66AD-B817-4F1E-ABC0-AF81258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FF66-2CC4-4DBB-9827-9CBA1AA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0714-5835-4810-96AD-EB9D30C5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4D23-F444-4CCC-9164-1F751453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0BB20-4EE3-4F42-A0FB-E1662B7F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B25-CE07-4DDB-A5B3-5A045465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02032-6CD8-4BC1-AD5D-D7446FB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4D9F7-8423-48AD-89AB-5FAA4D1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4C93-3BAD-4757-BBA0-509D1DFE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A362D-BB29-4A78-A099-C85A84C5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3A7A4-804A-4E74-8D2D-DB70CDC0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92B18-80AC-4022-BDB0-1B2ADEAF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47CA-37A0-4921-870C-AD46DD4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61DF9-D5D5-43BB-98DA-26D2A81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D6CEF-AF61-4D7A-9975-B30B956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68446-1AF7-4748-91A4-3A2CA078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2C6-6AAA-4DA2-8C12-2FBC8FC1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6CD1-6CA1-403E-8159-DE85D50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DEA5-970F-44EA-BBD0-B804ED0D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C8CC8-C24D-429D-8829-314616D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C3DC-7EDA-494B-99ED-25C8A53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CB3B6-298B-4AA8-8D8D-2B909AB2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5E02E-BE39-4DB9-BC2D-A4AA8C3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6B329-90A7-408A-9996-6ACC58E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4F088-FBF5-4567-A342-A8F68CC6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BF5B-631C-4084-B1E6-A7A6889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DA90-4ED4-4001-A08A-1312669A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BBFB-86C8-4D5A-BEE7-81C16853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051E-9D58-412A-882A-4186D92F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20F8E-36A7-4104-93F4-C9C604A3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AA432-4BB5-40DD-8ACB-CA3FBD5C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6DFCC-9802-4CB4-B24C-105536A3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A3DCD-960F-4EA7-A20D-BEA7DF3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73493-0C6B-4522-BEA3-B7784C8B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1AE3-D540-4C5E-90D8-5337C94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0C102-3650-4D42-8ABA-170EC77A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D708A-CA0B-4CFC-A85D-009DC61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1C28-C2B7-4E69-8447-7F11B9A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D10-E1C9-41DB-A4F7-F6A1ECE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BBC7-625F-4479-B60A-A3AF6BFF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BB801-677C-4772-8890-B2E05DA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E584-7C16-4C85-B5C0-8777DA9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A513A-4896-42CF-A776-E6AE8ECB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FFE5-2851-4A5D-8239-673ED8DA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E107E-EC58-49F1-A1D8-61B3E1AE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63CA8-EA32-49CD-B1A7-8F2D8AF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5A767-DF2C-47FE-8155-D00B52C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C0BB4-CEC8-48DC-9CA9-6C8C37C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4774C-860D-46EC-BB6C-182E7BE3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4C65-8154-4CE9-99D0-FC0734A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1F462-649D-4546-AF43-17C5F513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26D62-796E-4F94-AB77-D1DAE65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9BFB8-E71D-49B2-89D1-8CBF35B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6E28D-52CC-4BCA-8640-80557A9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3E91E-2E55-44FD-97D3-D6E06555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083D4-6A93-4C7F-ADE4-D9CD3CF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3C440-7DE8-48E5-B5A6-D08C3066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3A359-D85F-4065-B4F0-807F9DE3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8A356-44BE-4745-A544-E3F29A6D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9FD1C-5B0F-41C3-A105-7EF1AB9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1494-7170-4EBD-A7D0-7BCFD97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AB251-837A-4279-858E-D704289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A0230-B674-4CA4-9EF5-22A5DC8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6F0C9-F08B-428E-B850-738D6F2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CFBF9-2BE6-48FE-9358-A5E1F04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6AE42-5E92-4BA5-9F1A-1ACC312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26A59-B8C0-4023-A9DD-78B5645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6797-1E76-46E8-8424-E596664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D2C27-C1F1-4B1B-8B02-E98C2D57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42624-8B95-42EB-BA83-701C6401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0D502-D7D4-4F77-8952-79646B0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27B-7ACD-4760-8D0F-06B1A82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E5D94-21D2-4EA5-89DC-A6AC4BA7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BB442-70E2-4506-90A2-4B3EB70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A848A-16E2-4BBE-916C-FA10DEC1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5B286-A157-4CDE-ACE1-3C9F790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F29BC-BE6C-488B-98B3-55F78E5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AE9D9-261B-40AC-A605-574A228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FCE7B-6622-4C21-ABD1-B0D5925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ED0E2-2DB5-4B90-A666-31DB813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7F175-D630-456F-8BE5-B5D3285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48F3B-50CF-4BD9-8175-40B2943C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F25-3FB7-4BD7-AEC4-C9560B5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EA813-92C7-4A9D-B13C-0DFCAB02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D2644-9A8B-4BBE-A24F-F59FA671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A758F-16DE-438A-A4EE-7528B8A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47086-10A3-406D-B0AE-5E5308AD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14B9B-E6BF-4F82-9AF2-DB7AA89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E0E57-2407-481E-AC9F-4F40FD11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BF0F8-AE63-488E-94EF-025F9D7A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5F9C3-35D1-4F39-8919-64F3950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AD30A-83C5-4A3C-B93D-581E11B1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5208E-39E1-4320-8BE6-7B09A20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216-4021-4205-AF82-65409B1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C0D5A-5BC8-458D-B02E-AA1B7CE9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10E1C-D672-4556-88BD-EE95D295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7E42A-4015-4169-B63F-98B72398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04132-4024-44F0-A243-13733F0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E2641-8A07-4566-ADD0-467ADD2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D9307-D044-4B6C-9001-3899BCB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0EBAB-1816-45D5-AF5E-6EDF47D2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27396-79E8-4E29-8771-84A4106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0047D-8DB1-4897-AE3C-5F08A93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92D62-CD63-41B7-813B-01EBE6D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7A3-DC49-4CE6-9331-2EC8CFFD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089-5565-45B7-91C6-F4DC3E3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FFD62-A27A-4B94-949F-F1073E1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83957-29EC-4051-811B-23581A6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09A39-DF00-4FEB-8A37-9D30DD6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79FF0-59E2-4CCE-B6CD-211EA7A8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7FEC7-8057-42CF-BC23-BEA2A41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4E121-D3A0-4E41-82A0-C3B2776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C5154-04E4-4632-9CC9-B0C5E73B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B088B-8E55-4A38-8E59-B50C4A9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0BC36-64A6-4CD3-9221-388E643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72B56-BA55-4D0B-ACB9-C40BAAB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A807-B810-4A13-B1D5-4E0FDC2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F9357-0E8B-45F0-AEDD-8F007D6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E00BD-A692-4BFD-A3C7-1619C50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2FF1C-0697-42CD-B93C-534AA10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55412-1A17-425A-B98D-5C32F47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413F3-C235-407A-A867-8A2CE08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F539B-AA7C-48AE-955E-0AAEE14A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B138A-566D-4742-B46F-ED6C517C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2538E-7D8C-48BE-A8F1-84986EE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040C4-5534-469B-9AC3-0F7E8A5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CA469-1B8E-442C-9646-0CF832C7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E18C-363E-4D6A-8278-1215697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AEC81-C626-43EB-A7BE-053E811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A7951-EC85-4C0D-89E5-27B39461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52535-A0C3-4F7F-941B-C3603BC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77FD0-2BAF-4B01-9F06-2B45D95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24D0D-090C-41AE-BFD5-BEE6ADE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948F8-4872-4254-8DB1-A64C2E9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770C0-58BB-4C6F-B78F-8C656A4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73230-419F-44B6-B8EA-221FC9B9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D28DB-3EF2-4695-BE5C-D7612C2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86449-1D24-4A35-926F-5A924F72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994-A2AC-4CD5-9BAF-3E9A4167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03E8E-97A9-4F48-8672-DB835BC9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E3890-EB44-4B8D-9E93-BF3CE9E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73865-B12A-4D87-B5F1-D2D997C7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B3739-C52F-411E-8716-7B782BAA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9869B-3DE4-465D-B55E-FB9E380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753CD-325A-41AE-8E4B-86FE1D7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CB007-1350-4613-9362-4BFF94A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EB692-4608-4C39-8A60-705E274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62177-C9C7-4453-B319-094DFD8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B56B5-29AE-4F6C-B5AA-008A740C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1602-98F5-40F2-9ED3-CEB3DDCF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1F587-56C5-4CE1-9CC7-6723826D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C670D-1AE9-43CC-AE3C-6ED20BE5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C0EF1-D8EF-4299-9A2E-F917886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2CDD7-AD29-4F53-8DEB-F3C5D6C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ABEB07-66CB-4B8D-976B-9623EE5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84A82-E12E-4DC5-9880-DE5D98B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E3497-9250-45FB-BE68-374FB13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274EC-EF57-4119-B2A8-8389A9B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94184-AF5C-4AC9-99D6-815D3B7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0D0F4-610B-4FE1-BDA4-1CA735F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C563-5E69-41ED-81B6-6D96460E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B90A3-8544-4D4D-A7E2-A829938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AB0A06-A9CF-4FEB-A894-56F89535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2E300-6B93-408A-AC64-741E8036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9E68-5391-48DC-B6A0-36AB63B6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806C-C179-4192-B786-6853B0D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980E-37B7-4874-B23D-F4D764D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B83C-6104-47D4-8BA9-DC817E52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7E2-C8C2-4712-98AE-6802B8F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48C9-001E-435E-AF09-0864845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0EDB-234B-4919-A455-542BFE7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8141-4A99-41E1-B71B-3DFD2FE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0D7C-A5F2-49F6-93D4-66A7F710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416C-6DC9-4902-9932-95CC8BF3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60DF-A19D-48D0-960D-220E8BAC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35C1-FFD6-4716-94AF-37AA9C04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D96F-1269-47B1-848F-E4821FE1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7BED-29BD-483A-96E3-FB91F889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53629-7FC5-482A-9934-3D8AF8A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348-9482-4CC6-A3BF-0DFDDB62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C597-5328-4BBB-B69F-A612EAC5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26E6-E644-46C6-B52A-421DBB0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7AA3-D321-4771-97CE-DF42FF5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1B58-4C27-4427-9E23-C91F96A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85568-7455-49CB-A6CB-7C29DDF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7116-141E-460B-8A71-372DD4D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CFF6-5D70-44E8-8F68-703F438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E7E5-7DFC-48B7-B4A7-673DFB06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FDAA6-C9AF-4889-A040-E56807E3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A707-5DEC-4162-9838-99613B7B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726-1004-4835-80E1-5F29DB91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43EE-AD2F-41A7-9A95-5263126C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49D5-2B9B-4EDC-9FE1-A7A13E19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9380-75EA-4EC8-9A14-4D09F3B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7BC8-29DD-4759-92A8-D84EABCD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FB6C-2D64-4F26-943A-3DFD223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BF0F-9F21-44B0-AFAE-A0027DB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FDE0-D68D-4C31-A094-10798FD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3496-D6EB-4B55-BBC8-801EC53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22C4-A629-4123-8D98-11230A1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AD0C-F355-464E-BABB-B1EE5129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35B-187A-4A08-9B8C-BDFB70B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DA87-C92B-4DA8-8E08-27F30AEC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6F0C-076D-4546-95F1-B451F98F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9694-C1E5-4D87-B0FF-EA6611FD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7C0E-B0A4-4043-A5BA-A8417807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C90A-33CB-4E40-8F09-7054FDA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ADEAE-F08E-4BC9-8F19-4F89633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F745-936A-4A9F-A35B-FA58D2A5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D1DE-1180-4112-843F-4EB1D87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4A75-F3D7-4E02-8312-5374C2E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BC0F-AE4A-479D-B5CB-F351C5C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BEA-3E03-4634-A084-5445111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AEA5F-22AE-4579-ACEF-CCE7215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08E1C-4B56-4212-A48B-27B47CA4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4EA1-F697-4D17-8A50-FEC426B6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4F4F-5147-40E9-86AB-A6DC6C04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5428-FC8B-4913-ADF3-5E12E3E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02EE-3FC7-4E4E-8FED-828D446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1DA4-7ADE-43AC-9871-3E5A884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2D66F-182E-41C1-A1DE-EA0C1DC7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94FCA-ED36-45AE-A76A-EE54993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A442-1748-4C78-8D54-E755826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2C6-115E-47F9-9D83-7EC6A1B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F092-62EB-4C46-961D-EC71AC5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721C-A65A-46A5-9522-AA2994D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F0D4-BBBE-406A-8F74-2E689BE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12F0-CDEA-4534-87D8-ED7E0B12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1015A-71C4-4FFC-9D7C-191F07DD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8D2D-001F-4087-94F1-8E15665C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78A1-B3B9-40FA-A29D-CFC510D7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F910-1C96-4375-8262-F176F31B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7AE33-15D7-421D-B259-78B7AFCB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92C04-695F-4E07-905C-40422877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44C-ACA9-479E-971F-783ED65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7FEC-8073-422F-9493-320881C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4B8A-28B7-4B76-8064-E3A35DD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BEE91-363E-4A9B-B485-F0C0FF8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73B50-923E-401F-BD19-DD0ADAF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1D8AB-627C-447B-B772-23D080E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4D71-94C9-42BD-9D2E-02FA983A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066E3-6BB8-4D4E-BB85-B2194C3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926DB-7AFF-4372-A26F-4957CDB9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BA45D-0A69-4ECB-B691-336EE07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C8B54-1CFF-4CDB-9742-FF5C3A0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DDA-9565-4319-9303-99C2FA7D0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C16-6C7C-4AAA-A524-1DE43F994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7198-6691-4C11-90F5-0A27E35DF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F0E-6E52-44D6-A579-ACB3E9032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6195-1D6B-4248-AF85-9821BDDD2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885-EA75-4514-A5E0-62A610DBF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C87B-626F-4282-8614-DF849BECE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5B6-4BAD-496C-BC68-C7AAE94F4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2DB-6B8C-46B5-B6CE-37B18938B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AA3-BD8D-46D4-AEED-89F666EF8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ECEC-7FDD-4044-B277-F3869A9CE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A021-FB5F-4E48-9524-D49A90585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AAD-7821-4166-BF09-8BCFC265F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2ED-F49A-412B-AC51-B58E546900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71E-D580-43C7-ADEB-10D19183F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3E8-466B-4C3A-8349-AF464F277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D68-8C8B-4351-BA34-A34998251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1C7B-A2A6-4734-8660-ACDA772FB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C6E7-FC25-45AC-98AB-986816D0B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C9A8-6239-47D5-A9FE-E3110B27F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284-E15C-4600-A23B-C966EC19D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B37-7671-4341-B489-24BFD950A6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15F3-C34C-45B8-867A-C5A74176F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1D1-D638-4FD7-A43A-10C72BF5D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58B-C76B-46CF-885E-61CDCFD11E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F945-F8F9-4860-851E-734A1FF94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3D8-7715-4A90-BA7D-2F3829CF3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B16-628A-4724-9118-D490B27C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5C2B-D9FB-482D-8BBF-1091D57E6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A4E1-36ED-40B3-8F52-665F2411A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951E-CCD8-4AD2-81B8-D6DD97E49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F16-88D9-4CBA-9443-B752B5946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20D7-EBDD-4A8D-B657-7602AB788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222-11FC-49E5-BD1D-D28FA704B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E26-6E0D-4E3C-803A-8B8F54327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50E9-05A6-4443-B4BC-ACD4CF096C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C9C-A7F8-4168-A4D9-09A6007C2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8AF-9146-4382-9C14-9425E145F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4A8B-119F-4922-A45C-52B9F4A65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A7BE-8EC2-461E-AE04-FDBDB3F7CD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65160" y="2320920"/>
            <a:ext cx="7399440" cy="7048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28680" y="3746520"/>
            <a:ext cx="48866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33200" y="1457280"/>
            <a:ext cx="8877600" cy="3943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619280" y="4826160"/>
            <a:ext cx="273672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450040" y="4840200"/>
            <a:ext cx="273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47640" y="1233360"/>
            <a:ext cx="7848720" cy="43912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122" descr=""/>
          <p:cNvPicPr/>
          <p:nvPr/>
        </p:nvPicPr>
        <p:blipFill>
          <a:blip r:embed="rId2"/>
          <a:stretch/>
        </p:blipFill>
        <p:spPr>
          <a:xfrm>
            <a:off x="2340000" y="3025800"/>
            <a:ext cx="1368360" cy="55872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5123" descr=""/>
          <p:cNvPicPr/>
          <p:nvPr/>
        </p:nvPicPr>
        <p:blipFill>
          <a:blip r:embed="rId3"/>
          <a:stretch/>
        </p:blipFill>
        <p:spPr>
          <a:xfrm>
            <a:off x="5176800" y="3025800"/>
            <a:ext cx="2347920" cy="558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4" descr=""/>
          <p:cNvPicPr/>
          <p:nvPr/>
        </p:nvPicPr>
        <p:blipFill>
          <a:blip r:embed="rId4"/>
          <a:stretch/>
        </p:blipFill>
        <p:spPr>
          <a:xfrm>
            <a:off x="2340000" y="3716280"/>
            <a:ext cx="1511280" cy="5587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5" descr=""/>
          <p:cNvPicPr/>
          <p:nvPr/>
        </p:nvPicPr>
        <p:blipFill>
          <a:blip r:embed="rId5"/>
          <a:stretch/>
        </p:blipFill>
        <p:spPr>
          <a:xfrm>
            <a:off x="5292720" y="3701880"/>
            <a:ext cx="1655640" cy="559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6" descr=""/>
          <p:cNvPicPr/>
          <p:nvPr/>
        </p:nvPicPr>
        <p:blipFill>
          <a:blip r:embed="rId6"/>
          <a:stretch/>
        </p:blipFill>
        <p:spPr>
          <a:xfrm>
            <a:off x="2325600" y="4363920"/>
            <a:ext cx="1656000" cy="5590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7" descr=""/>
          <p:cNvPicPr/>
          <p:nvPr/>
        </p:nvPicPr>
        <p:blipFill>
          <a:blip r:embed="rId7"/>
          <a:stretch/>
        </p:blipFill>
        <p:spPr>
          <a:xfrm>
            <a:off x="5695920" y="4365720"/>
            <a:ext cx="1468440" cy="5587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8" descr=""/>
          <p:cNvPicPr/>
          <p:nvPr/>
        </p:nvPicPr>
        <p:blipFill>
          <a:blip r:embed="rId8"/>
          <a:stretch/>
        </p:blipFill>
        <p:spPr>
          <a:xfrm>
            <a:off x="2340000" y="5056200"/>
            <a:ext cx="1295280" cy="5587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9" descr=""/>
          <p:cNvPicPr/>
          <p:nvPr/>
        </p:nvPicPr>
        <p:blipFill>
          <a:blip r:embed="rId9"/>
          <a:stretch/>
        </p:blipFill>
        <p:spPr>
          <a:xfrm>
            <a:off x="5105520" y="5041800"/>
            <a:ext cx="17715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61920" y="906480"/>
            <a:ext cx="9018720" cy="38196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642960" y="4726080"/>
            <a:ext cx="7448400" cy="2076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042920" y="52578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33240" y="1995480"/>
            <a:ext cx="7875720" cy="2867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057320" y="2060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116000" y="365904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4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